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321-D462-4123-B398-6B2D1BC7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E4A-766A-44D1-BCD6-CAD17240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20C-8C55-4B91-910C-84EDE558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F03-668D-43AE-8436-70C5B194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B39-3764-44AA-8D68-DC995337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F38-4950-40F1-9AB8-4EAB4BD5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DA3-0B92-4A73-9A85-53FE182F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AF32-203C-4C9C-B728-EDAF8CF6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EFE-E892-4DF4-8DB9-BA6482F9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C1E-FE3C-4B47-9444-D37F0C22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681-95BE-4737-801E-02E1E5C2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1FA-B1FB-4CFD-96B2-AF0C13C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8409-10AE-4C7E-9F29-36A2D5986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920" y="5076720"/>
            <a:ext cx="50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7740720"/>
            <a:ext cx="64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25360" y="0"/>
            <a:ext cx="5732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5360" y="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Prome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97360" y="108000"/>
            <a:ext cx="3860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2640" y="108000"/>
            <a:ext cx="4005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8480" y="179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efan Edelk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41280" y="684360"/>
            <a:ext cx="561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5360" y="611280"/>
            <a:ext cx="55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anners are asked to find bugs (deadlocks) in communication protocols translated into PDDL from the Promela specification language. Two protocols are dealt with: dining philosophers, and an optical telegraph problem. Of each protocol, each domain version encodes the exact same instances but using very different PDDL construc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1600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16000"/>
            <a:ext cx="685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Dining Philosopher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From top to bottom: standard STRIPS/ADL, + derived predicates, + numeric flu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47636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00280" y="147636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500280" y="147636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259240" y="147636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50028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25924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0" y="378000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3500280" y="378000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5259240" y="3780000"/>
            <a:ext cx="1598760" cy="1118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003640"/>
            <a:ext cx="685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Optical Telegraph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From top to bottom: standard STRIPS/ADL, + derived predicates, + numeric flu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00364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0" y="7812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3500280" y="7812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1700280" y="536400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5924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350028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525924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0"/>
          <a:stretch/>
        </p:blipFill>
        <p:spPr>
          <a:xfrm>
            <a:off x="3500280" y="5364000"/>
            <a:ext cx="15987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9:30:20Z</dcterms:created>
  <dc:creator>Ilia Polian</dc:creator>
  <dc:description/>
  <dc:language>en-US</dc:language>
  <cp:lastModifiedBy>hoffmann</cp:lastModifiedBy>
  <dcterms:modified xsi:type="dcterms:W3CDTF">2004-05-24T07:45:27Z</dcterms:modified>
  <cp:revision>59</cp:revision>
  <dc:subject/>
  <dc:title>Kein Folientitel</dc:title>
</cp:coreProperties>
</file>