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9BD-E1A5-4745-ACD5-BD824B3D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64D-FD9E-45DB-AA3B-B4E3ADC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953-0277-4A2E-BF62-C20C5B76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933-F365-47F5-9DF9-CC911112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E51-0169-415E-8704-62F0188C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CA4-FF42-4638-89B4-4E90AA9A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BAA-7566-4691-B654-64AD8427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349-A9CE-40E3-8193-E01CF6CA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109-A9AF-4595-92B4-C532EF78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085-EAB2-4596-A5A1-69C4060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246-9865-4CF0-860E-6C58B88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C06-086B-450C-AF26-3ED83611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99B3-8149-4C23-9B12-5324E42B9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507672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740720"/>
            <a:ext cx="64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5360" y="0"/>
            <a:ext cx="5732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5360" y="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Pipes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7360" y="108000"/>
            <a:ext cx="386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2640" y="108000"/>
            <a:ext cx="400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3440" y="179280"/>
            <a:ext cx="32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y Frederico Liporace and J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rg Hoff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1280" y="684360"/>
            <a:ext cx="561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61128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anners control the flow of petroleum derivatives through a pipeline network. Product „batches“ can be pushed into, or pop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ed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out of,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 a pipe segment, updating the segment‘s contents accordingly. Additional constraints concern (in some domain versions) the compatibility of different product types,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the tankage capacity in areas, and deadlines on the arrival of the goal batch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0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ankage-non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basic STRI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0036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Tankage-non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tankage constrai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27000" y="608472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27000" y="759636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9000" y="2556000"/>
            <a:ext cx="189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7000" y="4572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ankage-temporal-deadlines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durations and deadli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7000" y="60847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ankage-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du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00080" y="759636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ankage-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du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8640" y="4572000"/>
            <a:ext cx="5229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8640" y="2700360"/>
            <a:ext cx="5229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4572000"/>
            <a:ext cx="0" cy="1512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64000"/>
            <a:ext cx="1628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28640" y="2700000"/>
            <a:ext cx="0" cy="8636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18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2340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773360" y="140328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57336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25924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3708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4859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1773360" y="3059280"/>
            <a:ext cx="1598400" cy="111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3500280" y="305928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5259240" y="305928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2349360" y="4859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4724280" y="4859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0" y="637236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1773360" y="6372360"/>
            <a:ext cx="1598400" cy="1118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3500280" y="637236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5259240" y="637236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8"/>
          <a:stretch/>
        </p:blipFill>
        <p:spPr>
          <a:xfrm>
            <a:off x="0" y="78850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9"/>
          <a:stretch/>
        </p:blipFill>
        <p:spPr>
          <a:xfrm>
            <a:off x="1773360" y="788508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0"/>
          <a:stretch/>
        </p:blipFill>
        <p:spPr>
          <a:xfrm>
            <a:off x="3500280" y="78850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1"/>
          <a:stretch/>
        </p:blipFill>
        <p:spPr>
          <a:xfrm>
            <a:off x="5259240" y="7885080"/>
            <a:ext cx="1598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0:20Z</dcterms:created>
  <dc:creator>Ilia Polian</dc:creator>
  <dc:description/>
  <dc:language>en-US</dc:language>
  <cp:lastModifiedBy>hoffmann</cp:lastModifiedBy>
  <dcterms:modified xsi:type="dcterms:W3CDTF">2004-05-17T14:11:47Z</dcterms:modified>
  <cp:revision>59</cp:revision>
  <dc:subject/>
  <dc:title>Kein Folientitel</dc:title>
</cp:coreProperties>
</file>