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3252-64E2-40A7-9832-F9BC974EF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43FD-C42A-4E59-A422-672F76969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7643-6E64-4450-A01D-917C6BE51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091D-31B4-4048-9457-A2F1FABC6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A4D5-AE95-4B4C-8823-3C6B65293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F469-D5D8-4649-A8FA-CCE7278B0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A169-C489-4CB6-9CAB-38425483D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18E8-94EB-4E91-A704-0F6599AA5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DBFC-D3BE-4739-88B3-5485AE236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F2C7-0590-4BC6-8274-96F08D93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2D3A-1753-4B75-AB43-C34F64A1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A63F-CF2C-4E27-8190-740E6158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fcf3"/>
            </a:gs>
            <a:gs pos="100000">
              <a:srgbClr val="cdf5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CE469-AD06-42FB-8D73-FCCAEF51F2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image" Target="../media/image15.wmf"/><Relationship Id="rId16" Type="http://schemas.openxmlformats.org/officeDocument/2006/relationships/image" Target="../media/image16.wmf"/><Relationship Id="rId17" Type="http://schemas.openxmlformats.org/officeDocument/2006/relationships/image" Target="../media/image17.wmf"/><Relationship Id="rId18" Type="http://schemas.openxmlformats.org/officeDocument/2006/relationships/image" Target="../media/image18.wmf"/><Relationship Id="rId19" Type="http://schemas.openxmlformats.org/officeDocument/2006/relationships/image" Target="../media/image19.wmf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fcf3"/>
            </a:gs>
            <a:gs pos="100000">
              <a:srgbClr val="cdf5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5920" y="5076720"/>
            <a:ext cx="504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9000" y="7740720"/>
            <a:ext cx="6480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125360" y="0"/>
            <a:ext cx="5732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25360" y="0"/>
            <a:ext cx="21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UM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997360" y="108000"/>
            <a:ext cx="3860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52640" y="108000"/>
            <a:ext cx="4005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41720" y="108000"/>
            <a:ext cx="335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Stefan Edelkamp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Roman Engle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41280" y="684360"/>
            <a:ext cx="5616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25360" y="395280"/>
            <a:ext cx="55436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Times New Roman"/>
              </a:rPr>
              <a:t>The UMTS domain is a real-world application developed by Roman Englert. Planners are asked to do the UMTS call set-ups required to start an interactive application in a mobile terminal. The main objective in the real-world domain</a:t>
            </a: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800" spc="-1" strike="noStrike">
                <a:solidFill>
                  <a:srgbClr val="000000"/>
                </a:solidFill>
                <a:latin typeface="Times New Roman"/>
              </a:rPr>
              <a:t> is to optimise the time needed to complete the set-up. When ignoring that objective, i.e. for suboptimal planners, the domain is relatively unproblematic, but for optimal planners it is a re</a:t>
            </a: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sz="800" spc="-1" strike="noStrike">
                <a:solidFill>
                  <a:srgbClr val="000000"/>
                </a:solidFill>
                <a:latin typeface="Times New Roman"/>
              </a:rPr>
              <a:t>listic challenge. In IPC-4, there are also ``flawed‘‘ versions of the domain where a superfluous extra action intends to disturb the relaxed plan-based heuristic functions used in most modern suboptimal planner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16000"/>
            <a:ext cx="685800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116000"/>
            <a:ext cx="6858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Normal                                                                      </a:t>
            </a:r>
            <a:r>
              <a:rPr b="0" sz="800" spc="-1" strike="noStrike">
                <a:solidFill>
                  <a:srgbClr val="000000"/>
                </a:solidFill>
                <a:latin typeface="Times New Roman"/>
              </a:rPr>
              <a:t>From top to bottom: standard, + time windows, + compiled time window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5076720"/>
            <a:ext cx="685800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507672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Flawed                                                                      </a:t>
            </a:r>
            <a:r>
              <a:rPr b="0" sz="800" spc="-1" strike="noStrike">
                <a:solidFill>
                  <a:srgbClr val="000000"/>
                </a:solidFill>
                <a:latin typeface="Times New Roman"/>
              </a:rPr>
              <a:t>From top to bottom: standard, + time windows, + compiled time window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140328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0" y="262728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0" y="385128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0" y="536400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0" y="658800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0" y="781200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1700280" y="1403280"/>
            <a:ext cx="1598400" cy="11192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9"/>
          <a:stretch/>
        </p:blipFill>
        <p:spPr>
          <a:xfrm>
            <a:off x="3500280" y="140328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0"/>
          <a:stretch/>
        </p:blipFill>
        <p:spPr>
          <a:xfrm>
            <a:off x="5259240" y="140328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1"/>
          <a:stretch/>
        </p:blipFill>
        <p:spPr>
          <a:xfrm>
            <a:off x="3500280" y="262728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2"/>
          <a:stretch/>
        </p:blipFill>
        <p:spPr>
          <a:xfrm>
            <a:off x="5259240" y="262728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3"/>
          <a:stretch/>
        </p:blipFill>
        <p:spPr>
          <a:xfrm>
            <a:off x="3500280" y="385128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4"/>
          <a:stretch/>
        </p:blipFill>
        <p:spPr>
          <a:xfrm>
            <a:off x="1700280" y="5364000"/>
            <a:ext cx="1598400" cy="1119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5"/>
          <a:stretch/>
        </p:blipFill>
        <p:spPr>
          <a:xfrm>
            <a:off x="3500280" y="536400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6"/>
          <a:stretch/>
        </p:blipFill>
        <p:spPr>
          <a:xfrm>
            <a:off x="5259240" y="536400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7"/>
          <a:stretch/>
        </p:blipFill>
        <p:spPr>
          <a:xfrm>
            <a:off x="3500280" y="658800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8"/>
          <a:stretch/>
        </p:blipFill>
        <p:spPr>
          <a:xfrm>
            <a:off x="5259240" y="658800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9"/>
          <a:stretch/>
        </p:blipFill>
        <p:spPr>
          <a:xfrm>
            <a:off x="3500280" y="7812000"/>
            <a:ext cx="159876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4T19:30:20Z</dcterms:created>
  <dc:creator>Ilia Polian</dc:creator>
  <dc:description/>
  <dc:language>en-US</dc:language>
  <cp:lastModifiedBy>hoffmann</cp:lastModifiedBy>
  <dcterms:modified xsi:type="dcterms:W3CDTF">2004-05-26T06:47:11Z</dcterms:modified>
  <cp:revision>61</cp:revision>
  <dc:subject/>
  <dc:title>Kein Folientitel</dc:title>
</cp:coreProperties>
</file>